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58362"/>
        <c:axId val="59475010"/>
      </c:barChart>
      <c:catAx>
        <c:axId val="99458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75010"/>
        <c:crosses val="autoZero"/>
        <c:auto val="1"/>
        <c:lblAlgn val="ctr"/>
        <c:lblOffset val="100"/>
        <c:noMultiLvlLbl val="0"/>
      </c:catAx>
      <c:valAx>
        <c:axId val="59475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8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8B1-BD11-4C5F-8501-7A40770A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028-1549-4868-8BDE-4786538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505-4B82-4163-A284-B337F9D8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C7B-C2AF-4DC4-A972-075C1A7A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2BD-8980-4D92-BA12-5F64B135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A49-53BA-4E71-8514-312E9433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705-E4AE-46FF-8962-A921AA7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20E-D46A-4148-BF18-3801EF31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269-1DC5-40DF-B4CB-773FF947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98D-D521-4B88-9B4E-1C924549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841-9B30-4365-80A6-27CB9879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D40-C952-4E0C-B205-24833FF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902A9-9D68-4204-A0D0-BB6605F1EB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