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316543"/>
        <c:axId val="4832363"/>
      </c:barChart>
      <c:catAx>
        <c:axId val="92316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2363"/>
        <c:crosses val="autoZero"/>
        <c:auto val="1"/>
        <c:lblAlgn val="ctr"/>
        <c:lblOffset val="100"/>
        <c:noMultiLvlLbl val="0"/>
      </c:catAx>
      <c:valAx>
        <c:axId val="48323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16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1E57-14B6-43EF-B6F1-C768B330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692-7517-4997-9034-40EBB38E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4A07-A378-4E8D-8730-2F94A0EC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86A0-C949-4754-B7C0-967E7B4B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5852-6E89-47CB-A024-8F524D1E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D481-22C0-4824-929A-85B90517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4230-9E2D-4FC2-A9E1-5764BBF4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1C52-77BC-4C2D-9803-F07BE7FA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5C32-5C94-4D94-B7DA-C1C60879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6FEB-AB66-4646-A435-BA08B685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5138-9B35-446A-A4B2-E4D927D1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0119-66AA-4947-9727-4901E161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8298A-EC6F-42B5-A988-CF9C3B23D2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