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90669"/>
        <c:axId val="74508258"/>
      </c:barChart>
      <c:catAx>
        <c:axId val="76290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08258"/>
        <c:crosses val="autoZero"/>
        <c:auto val="1"/>
        <c:lblAlgn val="ctr"/>
        <c:lblOffset val="100"/>
        <c:noMultiLvlLbl val="0"/>
      </c:catAx>
      <c:valAx>
        <c:axId val="74508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90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62C-A69A-4405-8CB2-E447ED2F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0340-9D4C-4FA6-B227-05AE4EB3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AA3-F4F4-496C-9E46-7ED2767A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372-A7E0-4F8C-B3E7-24388963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7B8D-2F3D-43D5-84C4-F01BA9F2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CC2-4C78-4BDB-BBE0-1700EC3D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F73-BE2B-43ED-8319-51BDFE77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E52-F4B4-4F89-A775-9919208F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535-E0E6-4180-94C6-B95DFE3A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169-CA31-4AEB-A437-A71369F5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763-4030-45CB-845F-87489543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3C8-92DB-4A3C-AE63-4E922490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DDD4A-4A1E-44A0-8120-F676B22C98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