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6928"/>
        <c:axId val="49144666"/>
      </c:barChart>
      <c:catAx>
        <c:axId val="8586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44666"/>
        <c:crosses val="autoZero"/>
        <c:auto val="1"/>
        <c:lblAlgn val="ctr"/>
        <c:lblOffset val="100"/>
        <c:noMultiLvlLbl val="0"/>
      </c:catAx>
      <c:valAx>
        <c:axId val="49144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BBA-6242-429B-9FD6-45B09419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BC9-9A0A-4528-81DF-21D30EDD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1A7-8BF6-4457-A650-720B3853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BC8-23CB-4502-A091-242BBFE1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958-9B13-4675-94D9-C3DD0D1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16A-3F2D-4F81-A15F-655991C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8C7-EFFE-49AE-BC99-476E2A81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D19-2118-4C53-BFAF-199C189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0F6-4C19-42AD-A0DF-64249F0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2FC-6BAF-43FE-B5DD-14AEEAA2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929-40AD-4F12-BA7A-0615624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B963-E330-4B04-A5A2-29088CE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BF656-DD9F-44A2-8B01-07BF6F68D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