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85498"/>
        <c:axId val="73259953"/>
      </c:barChart>
      <c:catAx>
        <c:axId val="16185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59953"/>
        <c:crosses val="autoZero"/>
        <c:auto val="1"/>
        <c:lblAlgn val="ctr"/>
        <c:lblOffset val="100"/>
        <c:noMultiLvlLbl val="0"/>
      </c:catAx>
      <c:valAx>
        <c:axId val="73259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5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B90-3476-4A64-91D0-140FBAD8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659-D4F8-4E9E-9E5D-5539F1B4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049-9063-4D11-9B17-CB906C15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02F-20A3-4BD4-85C4-D4245078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5BD-009D-45CB-88E0-9AEA6C45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766-3C21-4169-B155-E96D3EAA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A42-48E4-4AF8-A595-D07CD7FE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09C-0DE9-4112-8DEC-1CE9F7D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A67-6F4F-4B1B-9469-50C4E31A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7C4-8274-411A-B6FB-17AD6369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CE5-D37E-4C7B-B4CB-5689F7A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CA8-31E5-4269-BF34-3D0C179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F1F1E-1C99-4A4B-92B5-5D35299D3E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