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C0BBA9-0CF5-480D-A029-239276AABC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C273AD-8F0D-456B-AFF0-5EC88736E7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2A60B4-4427-47D3-9D41-DEDB8F1489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A52961-7E08-4C94-BB63-51D5F60529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19B248-C979-45B3-AD74-FAAAEEE163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FABA98-559A-4F56-A26A-D51D44FF05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419642-C50C-419E-91E6-839D8CFDD9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762929-2B63-4CFE-AFA2-79113C2A2C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0970AF-4A53-4972-B4C6-88B54C7CF7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E7C4EF-8D1E-450C-97C0-7685B2C25D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7C1E03-24D8-481F-8B10-A6A14DDC19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E489C1-861E-46B9-8D21-702C3936F8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437B3B-2ABA-4823-8159-481B96A3F3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4A33E4-EB94-45FE-A10F-5BE1428EB5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66438C-EC5E-4E16-BF20-5CF5E87873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DD9A82-B8CC-4A64-9C42-DB31011D6B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B4EDB9-AE5F-4509-B00B-9C1A18F826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893FF4-60FC-4B2C-B42D-FC6E1052D1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D448CE-75C2-4262-96EE-98ED8F40D5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78BA58-7305-475F-97C6-DFD1F47CA2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14027B-C7AF-48A3-8EF0-6EB4BEF622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F3557D-EE01-4ACE-97D9-D019A36D46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75458C-C1C7-4057-89D8-71EA7ABBC0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F8E63A-1085-49C8-ADCF-F01A9D5D75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7DB9C-5766-476E-A4E4-A90FF56C029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B95F4-7EC6-4E1A-BE9B-90822CE1BFA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E0DFDB2-9D0A-46FB-9010-9DB423FD3F5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7123E53-471B-44D9-938A-86ADC698926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7FCBC4-3801-4352-8B4B-E040DD6309F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A47997-29EE-4360-8125-50EEE87BFC9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C744A9-70FC-4C67-BB4D-CDD0258F0BA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C1295E-7C6C-47D0-937B-AEE2D38CB29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4BBD76-C7A6-4EC9-96A1-C5D1D3BCCB7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0BC305-FBD9-4079-B20E-6481ADFA0854}"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4D5B14-BD67-4908-AC3F-D5357E2BD790}"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2376D7-FBD1-446C-95B0-BB7ACC042C72}"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9C68D1-FCF5-4BE4-9BBB-6041373E73B1}"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2E9F47-9A56-44B2-9813-89F3FB02A550}"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41528E-B2B4-4390-9049-F5B5DE50F23B}"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9C33D8-D436-4B46-8B42-0A77DF23B346}"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6E44FB-B0C1-4CE4-BC42-05E7C9DB5434}"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C02D89-D09C-414A-8595-3C24E202590A}"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92D9EF-4B6A-4731-96CA-EC5090CF756F}"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881B15-7536-404E-B375-FC9EC172399E}"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CF2ADD-7196-4EFA-BF7D-35C40C5E36A5}"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9F79F0-CA00-4B2B-947B-93E0B6D1A44C}"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0B1B20-64EA-471B-9052-11069294D8AE}"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C4A25C-F92B-466C-AC29-9EEDE0E8EB9B}"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C9E793-D14E-44E3-AB5E-24BD761A4D90}"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3811DD-0483-4252-90F3-31355062DA1C}"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66A423-322C-4A9B-8B90-53754884061E}"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F9A36F-9CAA-4114-8338-72D5E108E11A}"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D5825B-262D-4524-8D9D-339C25E1EB5F}"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CC11123-EB35-4A09-9C0B-F4D03EAF4743}"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158E71-964D-41AB-B62D-FA36F23CF228}"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08A359-0B8A-4AC6-B4BA-7F4223364246}"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7B8482-415D-40AB-A4C4-30A065957904}"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550605-A3BF-4C4E-BA40-1DEEE06F70BD}"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0DE9A8-9D26-46A6-A5D8-C8EE8BE57963}"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9A997B-38F7-468C-9004-0286074B6DD2}"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427ACB-CDCA-4E61-8576-6113DDD0EA88}"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67C1AC-A349-4674-A425-4F28D1E6F283}"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62C48C-0B3D-45B7-AD0B-23C1C2202F10}"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74B924-65A8-416A-B853-039C44BF9B0B}"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0AA7BA-70EF-47D7-B846-B2AAA5EAE594}"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6991E8-6440-4D94-B6BC-BC36A1A16161}"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FC2BF2-DF47-415E-A8B9-59F9FB06905E}"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7612D2-3087-441D-BF38-A81E910AB4A6}"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5DA60F-8DE7-45A4-A8CD-87942E5F00E8}"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975C15-92C5-4E34-AFF0-B0CFA38E476D}"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16CE68-EF99-47DF-98F8-388D0E0D1839}"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0CC3C0-478C-47E0-BB92-EB8007549E49}"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CE4488-B062-459A-A6A5-24A335E962C2}"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DA0057-DF6C-4D3C-8042-5BCEC64455B6}"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28EB28E-1B31-4F81-9FA4-3C7E16094505}"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643715-E457-4808-AE72-9680F5C77957}"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F4F4D0-87A5-4DBB-B608-572C7AB1A641}"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7945F55-BD3B-4B56-80E5-E0FE9C90A382}"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E40258-B520-4AF0-87D5-21D61878A140}"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7A9554-F2C8-42EF-96CD-3A5A7FA8FC83}"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D60865-9CD5-452F-A1D5-8A1C8EEACC5D}"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32EFA1-B2E0-4F48-8017-5A9E9B7062A7}"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D2DA10-3C4D-4DC7-9E80-98F676060447}"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0E113D-77E4-42A0-85CB-36DEA3718B9C}"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50DD4E-99EA-4647-BCA5-2F9497F25551}"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D29C912-762C-4486-8D71-BA9DDE978DD9}"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064288-6414-461A-AC85-3E68E6EA592D}"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515DAD-B42F-411E-9106-41FDF6F155FC}"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735C03-61DD-4F97-8E1D-18A715ED96F3}"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D07C38-38EA-4A78-B5DC-89CB4C3D736E}"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B95603-DBAF-4782-B3A7-BFC9FC94F87A}"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9BF95B8-B4A1-4323-BD8B-DA8E43038A35}"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352055-90B6-4B87-9664-D8849A07414A}"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C305FB-AD6A-4D96-8B48-7F5CE52DC262}"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E5D7E7-A44C-4953-83EF-2843634FD83E}"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E5C5C3-7CA9-4A3B-A672-537A1ECFD341}"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6F0FA2E-FFCE-4CDC-B00C-A6F698E4C43B}"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DF8A6E-4DF9-4570-B01D-4086224D2C10}"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3D4387-C6FF-4CC6-B1C8-A6923A274066}"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C60E0C-AFCC-427E-923A-305A22E644DE}"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A2730A-CAE7-454C-9ED3-21AE0F2A1D48}"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4506D8-5081-4248-ACAF-E20759AAC5E9}"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E8E48C-9E61-4E43-ADCD-C6A13B5C1C2B}"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5FAEBB8-442D-4DCD-8DDC-C6EB33C07E89}"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216869-333E-4475-8F90-D29AC56AC138}"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18E9D1-195C-485B-9A02-C3D844E6998B}"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93639F-7E8C-4475-8B14-9F04ABDCC42D}"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99C62EB-139A-49C2-A0D1-3415E7ECC94A}"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29A8F8-8B33-4B1D-BEDF-14E5408B7C84}"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5D5B2B9-9D7C-41FB-8531-C507B18A6AA0}"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C0782C-57AB-441E-9710-9D93BC6D5B4E}"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1D6D82-1C91-4630-8D50-362C0458CA36}"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3935BF-3FBF-43CE-99E7-D8CBAD50B087}"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F4F61B-75D7-48E9-9D3D-81DAB7E91D7C}"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A7A8A6-0BFF-4D97-97CE-BD9CF60543D6}"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933DDE-6AB3-465A-BC5D-AFF41D7A474A}"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8517EA-1CF2-407F-8CF6-E8FA46BDBEA2}"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9AB708-B1B5-4033-B604-A3D3600ED840}"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01C0C4-DC05-4BF5-B37D-762C1D85DC02}"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98BDAF-CB22-44F9-BE82-1FF8C9977E12}"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DE4A5E-CD52-4392-A12F-8DF27454443A}"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F52898-D23E-4636-9542-201BA95F02A6}"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4DF2FE-07E1-4BDF-A152-376F1A14F455}"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DF5A6D-7374-481C-9383-F08965D24DF2}"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208A0B-E1A2-4040-8A67-58D36B311552}"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D391BF6-9FF9-4337-AAC1-ED91A446E419}"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2DF7BC-88E7-41A2-ACB0-AF89D1A6F034}"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932FC1-DC89-4C57-BA25-75DB2CD0A55C}"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6FA8D0-A42B-4590-A3DE-9ACA203105F0}"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41F3CF-3552-411B-9D57-5B08ACDEAD2B}"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E1DAE4-5B8B-49C7-9C77-DF0790343D28}"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571411-65CF-4EB5-8584-5FE8C8C16895}"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835158-2148-4E69-BFE8-F2A7FC234FE9}"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A3D3E3-23FB-4665-8B84-CD053E9041E8}"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EF191E-88D2-4BF1-86DF-3A768726C59E}"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899C99-931B-46E9-A073-D2B80F04DDF9}"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1EAC75-ED01-48D8-8CA2-52836E182672}"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AD6A5B-60FE-4EA8-9655-216F5842AE3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DBFA02-2877-4CED-90EB-D6516E597B70}"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C86BBB-2644-4EA1-808E-5BBFEBA0C8FF}"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EAD5ED-127A-4540-A9B0-00F09F1E0309}"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A1C92E-D032-4C77-B547-40188B900C1D}"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EA6A41-82EC-4577-83F6-5CCE8BEF248C}"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D83212-E14D-4B5B-A8EE-9EABDAC9D892}"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5A6C29-E6EE-4108-B7BB-196F0C5BC548}"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F54C4A-D65B-45C5-B408-CCB6777F80E1}"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235E50-F975-4342-8D46-3F5E7BF09E4E}"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54E141-F06F-40C9-BF73-FEB31A95F869}"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AD5F1D-3C67-4940-8731-DC510ED68008}"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353FFB-57C4-4D7C-B31D-2337D4CC15C6}"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EC9C0E-E915-44A3-BC54-D6489274FF2D}"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94A051-DD26-4589-BD93-5F4C8CD33D3D}"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70A98D-64DC-418D-BA57-E55BE261836D}"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DD0887C-732D-457B-BE52-EB18B0C5E210}"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36EB9B-923E-4EEB-B6F7-EC8443CA474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8B2775-27A6-46D0-80AD-CDD540FD9F1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2DC2F6-B28A-44FB-8736-1B7F5E5FA92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286911-50A7-4261-9432-58B04030FD3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6CD41D-CFF3-46C2-ABEF-5F35F2643E0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2D81A9-66C2-4728-8677-FED3BDD1D27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3C79220-63D7-4A4E-A7F6-5E43374A527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66DFD5-4EE1-4F78-A214-D8709A52835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D927AC-31EC-41CD-B6F0-178C0F6731A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E3F37F-17A0-4066-8C93-B71478516AA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DFAD53-A1E8-4B68-82B0-DEF4FE094D9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A7BDB6-9F38-430A-8D37-AA3E0C9B11A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CE72B4-BB4F-469D-BADD-D63C1D93A28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91F8AB-A2A6-46CA-947C-BC7A391A81F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6AC0C3-14E3-4FC6-9D56-5BCFD6A2A49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14ACCA-DC7D-446B-90B8-D1481F6BEDF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8180DE-CE0C-45C6-B2EF-F0644698FCD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A3329C-5618-4B19-8538-516AF8F5068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9B0268-C375-4BF4-A3A1-EE38ED60ECE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87DC3C-77BF-453B-B37D-8AC6027C685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320038-DE7F-4EB1-8EFF-9489DBA1940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3B34A2-2690-46C2-B0B4-BFE265FE5B9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E036D2-73BA-4C5D-9E32-51913C60C13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672E3E-FD12-43D0-B901-E20A9BA1DC0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80C0C1-1940-429D-975D-91A83753BBC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CA098D-82B2-4530-A12C-C0E4A8B0789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EC5845-91D5-4950-8A81-D081EBB6C20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15CE5B-AFE1-49D2-AE4C-A0F2E54685A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D65A9B-FF44-4B69-983A-CF83B325DB4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8E0C76-FB97-434A-AF56-97CFC78D75B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5C4B92-7AB1-45E4-AB32-08437A200FB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27C5D3-FE11-4CD3-9D07-B269618AA95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74103A-9DE0-492C-8396-ECC1E1B6A1F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0B1060-0CBF-4CFB-8ECD-CC4B9ECCE90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5D2D6E-0567-427B-8557-04B0EE09136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9A0E92-6523-4485-945B-341599EC3BD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6FE8B8-8A33-4D75-B3C8-38C3F857B49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AAF4FB-FDEA-461C-8D05-D92B2E8AB49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3AD410-D28C-4424-8022-E059E495487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2EAAE5-CE28-4CB0-A07C-21F291614BE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7ABDE6-2B54-442E-B968-0A3D19F534F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92C5C2-2875-4E8A-915A-998D0E78F19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BA04AA-287C-4617-A88F-F9DB0379E70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426D50-A168-4AA8-948F-88A0B950EF9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5F532A-4652-4C70-9692-9E65273243E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3B56C0-493D-4ED4-B224-52440D8F6C0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09B10D-7CA1-47A2-9E1B-8DF9BF93683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712DE09-3F96-4A44-8480-62720490E42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F74F39-A7C0-479F-AAE5-DA2CB475649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D9CCF8-8090-46A1-A19E-779224BE021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808E10-BD12-468C-A0E0-955F97005BD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333108-29E1-497D-B132-9149F18C066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C8BA28-F10C-4DB9-87FF-E7E46E17A92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9268F7-1164-4C0C-B8E7-1B380EB5B8F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47EEC8-8F4C-4C54-9463-67483290B25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DD6480-E8BA-4B2D-81A4-DF7A4359E6B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595A8F8-B512-4918-B75C-624C181F4AB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E8A995-649B-47E6-9610-3D940491B8F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110EC8-16A8-45B2-B4B6-3E477D179B1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839BF7-A871-40B5-A3F3-02E900502A8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E08D5A-848B-40CE-9CF8-F1DACCE7391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E24973-C407-4A2F-B850-C3C419A1D68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4A1231-B94F-4257-89FC-813F4E5A105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93D37A-111D-4B82-8C7E-C2D63906DB2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BB5052-9FD8-4F50-8BBF-573673B7859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8718F0-5F07-459B-AC20-3F58283275A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BC5FF5-74C8-4642-9333-BACDF8FEDA8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E80E89-B11A-4E5B-9D74-8891E15B0F4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F836E2-6916-4C76-8B12-EFDE1077479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3305DD-657C-4176-89DC-399FDF8686B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B82380-3FA1-4930-A0E7-7D1761FFF55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976262E-BFFF-400A-9148-2FEF4161811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C2D4F7-3398-4BC4-A568-2AF517C9481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ACBD61-0042-4F84-9B23-D926B518CBD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ACD29C-9AAC-4EDF-9D8F-5D5C5E80576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1604AF-B42A-4B18-BEBB-F3FB9BF92A1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98A972-1CE3-4EF6-A44B-BF3BDC11063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A7E77D-4985-4D0D-A219-437ACCF05AC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996199-58F3-40F4-AA28-4E9C9885B5A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70BFDD-4092-4A61-8445-33BDFA8CACA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F19CAD-2933-423B-80B7-9FF050898D9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15953A-7894-4B50-A637-FA61C55C54C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BB8DE2-DBFB-4088-A3FE-B1EBF36C175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420C08-8CCB-4E43-9B28-974B406866C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9DB833-9F72-4F8C-AB70-893409FFFDE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